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B33-45AE-4708-BCF2-44908A20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B4F-F7FE-486E-9FE0-37D12F99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BC8-52ED-454A-ABED-2EAB99A0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892-D36C-4065-9275-734EB49D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D6F-DE37-4C26-8C24-DBE43AAD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B1C-A2ED-4049-BDAE-D5DC3AC3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7B1-63F5-42D0-9AA8-B23195FB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F59-E02C-4419-A84A-896AF578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641-54CE-4DB8-AA0E-904DB0FA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314-54EB-458A-B9EE-08D1BAAF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D43-881C-4C2C-AC2B-334EE82D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2D3-3FC7-43F5-BBC6-198A39F8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994C-40D6-4E92-A43B-37626C279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01.jp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0" y="4089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2f2f2"/>
                </a:solidFill>
                <a:latin typeface="黑体"/>
                <a:ea typeface="黑体"/>
              </a:rPr>
              <a:t>单元十  医院感染管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4"/>
          <p:cNvSpPr/>
          <p:nvPr/>
        </p:nvSpPr>
        <p:spPr>
          <a:xfrm>
            <a:off x="5135400" y="133020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幼圆"/>
                <a:ea typeface="幼圆"/>
              </a:rPr>
              <a:t>护理管理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四   医院感染持续改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1905120" y="2666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管理职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管理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C:\Users\二胖\Desktop\护理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图示 18" descr=""/>
          <p:cNvPicPr/>
          <p:nvPr/>
        </p:nvPicPr>
        <p:blipFill>
          <a:blip r:embed="rId2"/>
          <a:stretch/>
        </p:blipFill>
        <p:spPr>
          <a:xfrm>
            <a:off x="1463760" y="2438280"/>
            <a:ext cx="6095880" cy="2292480"/>
          </a:xfrm>
          <a:prstGeom prst="rect">
            <a:avLst/>
          </a:prstGeom>
          <a:ln w="0">
            <a:noFill/>
          </a:ln>
        </p:spPr>
      </p:pic>
      <p:sp>
        <p:nvSpPr>
          <p:cNvPr id="51" name="矩形 16"/>
          <p:cNvSpPr/>
          <p:nvPr/>
        </p:nvSpPr>
        <p:spPr>
          <a:xfrm>
            <a:off x="228600" y="838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示 8" descr=""/>
          <p:cNvPicPr/>
          <p:nvPr/>
        </p:nvPicPr>
        <p:blipFill>
          <a:blip r:embed="rId2"/>
          <a:stretch/>
        </p:blipFill>
        <p:spPr>
          <a:xfrm>
            <a:off x="536400" y="1262160"/>
            <a:ext cx="8326440" cy="3998880"/>
          </a:xfrm>
          <a:prstGeom prst="rect">
            <a:avLst/>
          </a:prstGeom>
          <a:ln w="0">
            <a:noFill/>
          </a:ln>
        </p:spPr>
      </p:pic>
      <p:sp>
        <p:nvSpPr>
          <p:cNvPr id="56" name="矩形 9"/>
          <p:cNvSpPr/>
          <p:nvPr/>
        </p:nvSpPr>
        <p:spPr>
          <a:xfrm>
            <a:off x="1101960" y="609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医院感染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380880" y="139716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医院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概念：医院感染又称医院获得性感染。是指任何人在医院受到病原体侵袭获得的感染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院感染按病原体的来源分为外源性感染和内源性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380880" y="3527280"/>
            <a:ext cx="73915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医院感染发生的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院感染的发生必须具备三个形成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感染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传播途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人群易感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一  医院感染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914400" y="16351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医院感染的影响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主观因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客观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914400" y="3763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医院感染监测及控制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监测项目及时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监测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预防与隔离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914400" y="163512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标准预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标准预防定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基本要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防护措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914400" y="3763800"/>
            <a:ext cx="739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隔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标准性隔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传染性隔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保护性隔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预防与隔离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914400" y="122076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常见传染病的主要特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细菌性痢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伤寒、副伤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麻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流行性乙型脑炎 传染性肝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二  预防与隔离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914400" y="1220760"/>
            <a:ext cx="8153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手卫生管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概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务人员洗手指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务人员洗手的方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务人员手消毒指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医务人员手消毒的方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二胖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1219320" y="3808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务三  职业暴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914400" y="122076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职业暴露概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职业暴露的防护措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生职业暴露后的处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职业暴露处理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UP</dc:creator>
  <dc:description/>
  <dc:language>en-US</dc:language>
  <cp:lastModifiedBy>acer</cp:lastModifiedBy>
  <dcterms:modified xsi:type="dcterms:W3CDTF">2021-07-15T06:05:34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